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9.wmf" ContentType="image/x-wmf"/>
  <Override PartName="/ppt/media/image5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6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88F11ABF-2A8E-4033-8093-8961BEE736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omputers versus Mechanical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eneral-purpose versus Special-purpose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al versus Analog compu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ctronic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from transistors tha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chanic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o not use electricity to fun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tructed of a combination of gears, levers and spring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ener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re not manufactured to do any one th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able to do any tas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pecial-purpose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nufactured to do a predetermined task or set of tas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al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discrete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discrete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alog Compu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that functions in continuously varying quantit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es or gives results that are also continuously vary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4800600" cy="682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746748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General-Purpose Digital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General-Purpose Digital Compu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ccepts information of many kind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nges it in a way that is controlled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sents results in a way usable by huma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Kursu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ei õpeta programmeerimist, aga annab sissejuhatu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Verdana"/>
              </a:rPr>
              <a:t>.com/watch?v=FTSAiF9AHN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20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20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20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20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IT on siiamaani arenenud ja mida võiks lähiaastatel ooda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1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1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2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2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3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3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3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3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4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4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5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5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6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6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6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7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9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9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9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9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30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30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30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30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1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1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1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1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2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2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2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3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4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4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5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5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6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15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loengu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loengu järel on vaja veebist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veapunkti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 vs diskre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Line 6"/>
          <p:cNvSpPr/>
          <p:nvPr/>
        </p:nvSpPr>
        <p:spPr>
          <a:xfrm>
            <a:off x="3060720" y="251928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252960" y="2879640"/>
            <a:ext cx="5024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9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9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oovitatavad igapäevaselt loetavad lin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Soovitavad regulaarselt loetavad lingi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www.engadget.com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vaata kursuse saidilt juurde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6-09-07T10:53:31Z</dcterms:modified>
  <cp:revision>25</cp:revision>
  <dc:subject/>
  <dc:title> </dc:title>
</cp:coreProperties>
</file>